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770-E4EF-45F9-8B64-712B0583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734-2875-4580-8948-832E4E3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1DE1D-923F-4E91-8A55-AA3DEF0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4DAA0-4D61-49F5-90F7-903543CC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5EE17-BC99-4940-8C96-EF2C47F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B46BB-2A00-4610-8C6E-2C2C570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B57C4-7290-41BD-86E1-B138B00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2AC27-C010-4409-B1EA-6D41854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227A4-5070-44C7-BF5B-DCB0A430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B138C-A742-40FE-8883-3C91D2D2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DE9D5-64E5-436B-951D-66601039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002B9-8FE3-4075-AE2D-00187B9F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3DF-9AB8-424C-917C-B0D0654C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09A79-FADB-4733-A8A8-DA51D4CA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1EA00-6444-4A7F-802E-BE07FD45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AE56F-3E1D-4146-BC47-786F9DCD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E0130-A6B6-4C82-817C-A8146AFE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EACAF-EF8D-46FA-869E-A1DAEB0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B96D-3530-4C48-BAEE-039C6A9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870B0-0BDF-4814-889F-03B362B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40007-D6B8-4BD9-9D92-801DDEEF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62074-804E-491F-B84B-A0DDB7C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18A08-D348-4699-B31E-0590FBA0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DD2-32FE-4F4A-98F8-9DDE9221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94AED-3DE2-4F03-AC49-583931B2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49743-B2DB-4CFB-BC38-61F8A03E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C50C-D429-4924-920C-A785491B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1193-0F13-409C-B119-EF9C097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829EF-4707-49A8-BA32-33B8F6C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94ED-79A0-4BEB-94BE-1995627F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EB068-79B1-4BC1-9B1A-2181A57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8C2A2-DE43-45DD-969F-1A937EE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9F7-9E66-4972-9BAA-18B12853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70231-D977-4CFD-BD3F-AF58E8BB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DE35-847F-40C4-A3C8-465194D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6E46-7F99-4C24-82C3-54F2F36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60B85-561D-4944-BBE0-C3F9EFDC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313E5-7F73-4332-8595-057BF039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B6AC3-4262-4336-A94B-217E7725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D698D-9C25-4F28-AC26-F89D4182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AD97D-91F9-47D1-9132-6299D1D6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C11D9-8433-4B72-AC40-F7105B74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51AD9-6C7D-4430-AC9C-C573DAE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B48-885C-4D18-B438-CDCBC30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B6C912-C9DB-41F2-AE58-1F4B86EC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9C246-A277-452B-9404-EC76D55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EF8DA-9C2B-432E-AD10-C835B42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3AD66-CABC-4695-8BF7-7D92C2E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CB4E9-8BF7-4CF6-905E-A8A3FCD9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63E7F-87DB-4633-99C8-8C6B885C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7D76C-22CB-4CC5-85E8-1F08CC29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AE21-77F1-4243-AEAB-2300CAB5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800E-E4B8-4995-8896-8F0345B6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3814-6475-4CCB-A896-727BDB8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8E9-E6C3-4C82-8263-F988CC0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2243A-9540-44B2-BC35-1AB5C3F2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53BD-BF73-429D-916C-41867C0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44E5-274B-4697-B328-39091EAC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B51E-7A40-466E-BA67-139EC3D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D28F9-336B-420C-B996-3599BE36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A301-705E-4CD2-9575-34C52DF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9219-8EF5-4EE6-BE3E-5B7CD641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B860-9C44-4FDD-964A-BD25AD9A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BBE0E-850E-48F5-8AA7-8BCBB402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E68E7-E870-43DB-B11E-04C9D00F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82B-48C8-4A9A-8333-5A1DA3A6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1A48-3726-4DAB-A173-B610F81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CB07-60A6-40EC-AF66-684F6552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B1DF-E72E-4D48-B57E-0FB18E7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F9AA1-0E62-4743-A989-D533A39E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0BDB1-732D-448F-A154-6421D6F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32E24-5840-41F1-AD38-6591FB0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AD9A-78F4-4B4C-AD2B-68EA2B35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8BDF3-5AEF-4BB4-88FB-169945A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DF33F-AB85-4983-A2CC-AF70D1D3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4D56B-AF36-4B90-8C7F-B524A441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F13-9CF5-4797-9373-9F07B7A6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4578C-B9E8-4697-AB8C-9FFC4862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F66A9-B48A-4E17-929B-979189E1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63E16-4233-43DD-BD94-896B90F9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3C25E-A276-4345-A645-C22BA650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8B9F3-BC78-4A63-9B67-AD29D65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DEE1F-320B-458F-AA2A-1BE066A8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94A39-0E4B-4B9F-B906-1A5E8E2C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22488-265E-4830-8F9D-781C369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BA1B55-A03A-4EAD-B306-8B1D089F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42A85-58A8-4F17-A9ED-9AE55A4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EA2-4B30-4BE9-8E07-C1D5365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8360C-7A37-4A42-A380-4C733BC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BE3C4-3DEB-4249-984C-F8BB6169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385D8-0ACE-4477-B184-E90BBBC0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4415-89CB-44B1-8C62-8A523A75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D00A-3497-46F9-AA5C-FF96F47D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56238-AD90-4A8A-A22F-4E0B0AF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F59D-F77D-4679-965B-0D2F53A4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4DF8-89D0-47CD-A02E-31D9CF82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00143-00EC-4702-95C6-3CDB9E4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F9EF8-AC63-4B84-910B-49261F7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946-F802-431C-AC73-8494D6E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4B97-5D99-45D3-A333-A417C034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9972-7CD6-47C0-9D01-97169452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515B-3D4A-487B-97F4-5FDE30B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6B21-84CB-4EB5-B9BC-0D36EE3C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88D05-53EA-4029-8A7E-7A31016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FC62-334F-442E-A15B-00D348EC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D2C9-A623-44BA-AE5D-BB675F6B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BC9DD-F616-46A2-B5BF-124122FA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3C8E2-7899-4389-9D12-F35A201A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CDE65-EC6A-4D05-803F-86DE9AF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A60-93C9-4AD5-86E0-265B4EDC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423E-4476-40F3-96B3-CF0FE165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D23D9-3B59-4578-BD69-B3A5E0A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55C73-1D44-4A3E-A7EB-B14862F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4D34-77EE-4DB9-B02F-FB9BB01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9BF3-7794-4BBB-BB70-4C2498C6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F45CE-9407-4488-913C-801F1F86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9843-ACF6-4718-81CA-08A20296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494D2-C8E3-4C08-A68F-7AA55266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CBD9D-5A81-42A7-85ED-2B868BAC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51389-19E6-42E5-8D4E-2C014583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F54-5EC6-4ABF-9B37-6612542A1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D02-B995-4F33-981A-2E0AEE893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F599-F39C-4411-9405-F133CA6FE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5FAA-0027-49F7-A057-9DAE774AA6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CB1-3703-460C-9762-499458D9B0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8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D710-644B-44D2-A92B-4E238C4A5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EC1-4FBB-4267-A69F-3FF7E68B6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607-9F48-4C42-B3E9-FC8F45CE4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CE4-A2C3-4039-9B19-CCCF43AF8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AAE-56F1-40C1-A716-FFD217C6B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Zor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29528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e By: Jack W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1cb75"/>
                </a:solidFill>
                <a:latin typeface="Times New Roman"/>
              </a:rPr>
              <a:t>La rutina por la mañana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zorr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pier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La se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uer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segui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No 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levan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sequi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059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05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 rutina por la mañan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zorr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añ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No s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uch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La zorro 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v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La zorro se cepilla los dien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896160" y="3524400"/>
            <a:ext cx="2247840" cy="3333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284328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Desayu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zorro se desayuna. Se coga el mousse. Se coma el mousse. No se sienta a la me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467480" y="5904000"/>
            <a:ext cx="1676520" cy="95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rop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zorro se pone la ropa. Se pone la ca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2639880"/>
            <a:ext cx="4038480" cy="33372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5257800" y="2716200"/>
            <a:ext cx="3886200" cy="3233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zorro se maquilla. Se pone el maquill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4419720" cy="29718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4724280" cy="29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35:11Z</dcterms:created>
  <dc:creator>wicejoh</dc:creator>
  <dc:description/>
  <dc:language>en-US</dc:language>
  <cp:lastModifiedBy>wicejoh</cp:lastModifiedBy>
  <dcterms:modified xsi:type="dcterms:W3CDTF">2012-04-05T15:42:45Z</dcterms:modified>
  <cp:revision>12</cp:revision>
  <dc:subject/>
  <dc:title>Argentina Aventura</dc:title>
</cp:coreProperties>
</file>